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602-CF81-498C-8B81-0F9F3071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AC3-096E-4A9B-BDBB-F06D525D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003-5FA0-47E5-B347-EBDE07FE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CF7-DEA2-4964-88C7-9E90C69E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8ED-29B3-4B44-990A-4FCCCE18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7F1-88BF-4A14-8D91-CCEC675E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655-246C-4357-A33C-8B4F5C3F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BD7-3559-444A-825F-F81104BB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FEC-350D-4BAD-835F-A85601E4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1CF-E943-4331-AF16-5BF5F594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AFD-6551-4E76-95F4-F27EF2AD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BA6-E9C9-4439-A4CA-864B349E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3E7-C41E-4D42-BAAD-9A49DB967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9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оты и кошки в пословицах, поговорках, фразеологизмах, примет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про\Documents\работа\документы\про кошек\untitled.png"/>
          <p:cNvPicPr/>
          <p:nvPr/>
        </p:nvPicPr>
        <p:blipFill>
          <a:blip r:embed="rId1"/>
          <a:stretch/>
        </p:blipFill>
        <p:spPr>
          <a:xfrm>
            <a:off x="6732720" y="2997360"/>
            <a:ext cx="1908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87280" y="260280"/>
          <a:ext cx="7561440" cy="63165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75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но пташечка запел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бы кошечка не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в печурку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тужа во дв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моется, лижет лапу 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вёдру,  т.е. хорошей погод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плак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ез к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ам раздоль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гр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кошки-мы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5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упить к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меш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 Васька слушает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а ес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меть пословицы, поговорки, приметы, фразеологизмы, крылатые выражения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ет кошка, чьё мясо съела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ольются кошке мышкины слёзки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мноте все кошки серы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сится как кошка с котятами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ёрного кота не вымоешь добела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ый привет и кошке люб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а убить – семь лет ни в чём удачи не видать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34960" y="260280"/>
            <a:ext cx="7499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лежит брюхом вверх – к теплу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но пташечка запела, как бы кошечка не съела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в печурку – стужа во двор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моется, лижет лапу – к вёдру, т.е. к хорошей погод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 наплакал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 кота мышам раздоль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ть в кошки-мышки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пить кота в мешк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аська слушает, да ест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крылатое выра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особенности котов (кошек) проявляются в пословицах, поговорках, фразеологизмах, примета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про\Desktop\cat125.png"/>
          <p:cNvPicPr/>
          <p:nvPr/>
        </p:nvPicPr>
        <p:blipFill>
          <a:blip r:embed="rId1"/>
          <a:stretch/>
        </p:blipFill>
        <p:spPr>
          <a:xfrm>
            <a:off x="6372360" y="4657680"/>
            <a:ext cx="21700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258560" y="260280"/>
            <a:ext cx="453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гк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варств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вь к теплу, ую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вк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тр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зависим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про\Desktop\cat236.png"/>
          <p:cNvPicPr/>
          <p:nvPr/>
        </p:nvPicPr>
        <p:blipFill>
          <a:blip r:embed="rId1"/>
          <a:stretch/>
        </p:blipFill>
        <p:spPr>
          <a:xfrm>
            <a:off x="6732720" y="4076640"/>
            <a:ext cx="1985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5280" y="2133360"/>
            <a:ext cx="70992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нового я узнал(а) на урок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бы ещё хотел(а) узнат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про\Desktop\котовасия\картинки2\lovelyanimals065.gif"/>
          <p:cNvPicPr/>
          <p:nvPr/>
        </p:nvPicPr>
        <p:blipFill>
          <a:blip r:embed="rId1"/>
          <a:stretch/>
        </p:blipFill>
        <p:spPr>
          <a:xfrm>
            <a:off x="4211640" y="5373720"/>
            <a:ext cx="1506600" cy="112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про\Desktop\котовасия\картинки2\mouse063.gif"/>
          <p:cNvPicPr/>
          <p:nvPr/>
        </p:nvPicPr>
        <p:blipFill>
          <a:blip r:embed="rId2"/>
          <a:stretch/>
        </p:blipFill>
        <p:spPr>
          <a:xfrm>
            <a:off x="1116000" y="3141720"/>
            <a:ext cx="625320" cy="82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про\Desktop\котовасия\картинки2\mouse063.gif"/>
          <p:cNvPicPr/>
          <p:nvPr/>
        </p:nvPicPr>
        <p:blipFill>
          <a:blip r:embed="rId3"/>
          <a:stretch/>
        </p:blipFill>
        <p:spPr>
          <a:xfrm>
            <a:off x="1116000" y="1989000"/>
            <a:ext cx="6253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34960" y="836280"/>
            <a:ext cx="46497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festival.1september.ru/articles/634984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catsrepublic.ru/kotote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festival.1september.ru/articles/571440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festival.1september.ru/articles/567706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ловицы, поговорки о котах и кошках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mau.ru/read/word/russian.ph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ро\Desktop\про кошек\cat034.png"/>
          <p:cNvPicPr/>
          <p:nvPr/>
        </p:nvPicPr>
        <p:blipFill>
          <a:blip r:embed="rId1"/>
          <a:stretch/>
        </p:blipFill>
        <p:spPr>
          <a:xfrm>
            <a:off x="7380360" y="5013360"/>
            <a:ext cx="14288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про\Desktop\про кошек\85933704_www_webpark_ru__01_podborka_12.jpg"/>
          <p:cNvPicPr/>
          <p:nvPr/>
        </p:nvPicPr>
        <p:blipFill>
          <a:blip r:embed="rId1"/>
          <a:stretch/>
        </p:blipFill>
        <p:spPr>
          <a:xfrm>
            <a:off x="2268360" y="1484280"/>
            <a:ext cx="4375440" cy="3979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571464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чало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их произведениях героем становится кот или кош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про\Desktop\котовасия\картинки2\cat014.png"/>
          <p:cNvPicPr/>
          <p:nvPr/>
        </p:nvPicPr>
        <p:blipFill>
          <a:blip r:embed="rId1"/>
          <a:stretch/>
        </p:blipFill>
        <p:spPr>
          <a:xfrm>
            <a:off x="5508720" y="3470400"/>
            <a:ext cx="2538360" cy="1893600"/>
          </a:xfrm>
          <a:prstGeom prst="rect">
            <a:avLst/>
          </a:prstGeom>
          <a:ln w="0">
            <a:noFill/>
          </a:ln>
        </p:spPr>
      </p:pic>
      <p:sp>
        <p:nvSpPr>
          <p:cNvPr id="48" name="Овальная выноска 3"/>
          <p:cNvSpPr/>
          <p:nvPr/>
        </p:nvSpPr>
        <p:spPr>
          <a:xfrm>
            <a:off x="2050920" y="4149720"/>
            <a:ext cx="2665440" cy="1800360"/>
          </a:xfrm>
          <a:prstGeom prst="wedgeEllipseCallout">
            <a:avLst>
              <a:gd name="adj1" fmla="val 73185"/>
              <a:gd name="adj2" fmla="val -41435"/>
            </a:avLst>
          </a:prstGeom>
          <a:solidFill>
            <a:srgbClr val="d7e4b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bbb59"/>
                </a:solidFill>
                <a:latin typeface="Calibri"/>
              </a:rPr>
              <a:t>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про\Desktop\литературные коты\default.jpeg"/>
          <p:cNvPicPr/>
          <p:nvPr/>
        </p:nvPicPr>
        <p:blipFill>
          <a:blip r:embed="rId1"/>
          <a:stretch/>
        </p:blipFill>
        <p:spPr>
          <a:xfrm>
            <a:off x="5219640" y="3314880"/>
            <a:ext cx="3137040" cy="295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2" descr="C:\Users\про\Desktop\литературные коты\515731_original.jpg"/>
          <p:cNvPicPr/>
          <p:nvPr/>
        </p:nvPicPr>
        <p:blipFill>
          <a:blip r:embed="rId2"/>
          <a:stretch/>
        </p:blipFill>
        <p:spPr>
          <a:xfrm>
            <a:off x="988920" y="404640"/>
            <a:ext cx="3598920" cy="28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4" descr="C:\Users\про\Desktop\литературные коты\0_98fa1_7a592caf_XXL.png"/>
          <p:cNvPicPr/>
          <p:nvPr/>
        </p:nvPicPr>
        <p:blipFill>
          <a:blip r:embed="rId3"/>
          <a:stretch/>
        </p:blipFill>
        <p:spPr>
          <a:xfrm>
            <a:off x="1692360" y="4149720"/>
            <a:ext cx="1807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C:\Users\про\Desktop\литературные коты\4.jpg"/>
          <p:cNvPicPr/>
          <p:nvPr/>
        </p:nvPicPr>
        <p:blipFill>
          <a:blip r:embed="rId1"/>
          <a:stretch/>
        </p:blipFill>
        <p:spPr>
          <a:xfrm>
            <a:off x="1981080" y="4221000"/>
            <a:ext cx="3121200" cy="218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7" descr="C:\Users\про\Desktop\литературные коты\628.jpg"/>
          <p:cNvPicPr/>
          <p:nvPr/>
        </p:nvPicPr>
        <p:blipFill>
          <a:blip r:embed="rId2"/>
          <a:stretch/>
        </p:blipFill>
        <p:spPr>
          <a:xfrm>
            <a:off x="1523880" y="836640"/>
            <a:ext cx="3313080" cy="228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3" descr="C:\Users\про\Desktop\kot-bayun-2.jpg"/>
          <p:cNvPicPr/>
          <p:nvPr/>
        </p:nvPicPr>
        <p:blipFill>
          <a:blip r:embed="rId3"/>
          <a:stretch/>
        </p:blipFill>
        <p:spPr>
          <a:xfrm>
            <a:off x="6156360" y="2276640"/>
            <a:ext cx="2282760" cy="220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про\Desktop\koshkin_dom.jpg"/>
          <p:cNvPicPr/>
          <p:nvPr/>
        </p:nvPicPr>
        <p:blipFill>
          <a:blip r:embed="rId1"/>
          <a:stretch/>
        </p:blipFill>
        <p:spPr>
          <a:xfrm>
            <a:off x="1116000" y="189000"/>
            <a:ext cx="4032360" cy="300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5" descr="C:\Users\про\Desktop\литературные коты\1279730104_behemoth_by_trg_art.jpg"/>
          <p:cNvPicPr/>
          <p:nvPr/>
        </p:nvPicPr>
        <p:blipFill>
          <a:blip r:embed="rId2"/>
          <a:stretch/>
        </p:blipFill>
        <p:spPr>
          <a:xfrm>
            <a:off x="6589800" y="3359160"/>
            <a:ext cx="2341440" cy="3309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i54.fastpic.ru/big/2013/0216/40/c3fd8ce10399e5b869fe6f651c892440.png"/>
          <p:cNvPicPr/>
          <p:nvPr/>
        </p:nvPicPr>
        <p:blipFill>
          <a:blip r:embed="rId3"/>
          <a:stretch/>
        </p:blipFill>
        <p:spPr>
          <a:xfrm>
            <a:off x="1187280" y="3645000"/>
            <a:ext cx="381348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6" descr="C:\Users\про\Desktop\cat124.png"/>
          <p:cNvPicPr/>
          <p:nvPr/>
        </p:nvPicPr>
        <p:blipFill>
          <a:blip r:embed="rId4"/>
          <a:stretch/>
        </p:blipFill>
        <p:spPr>
          <a:xfrm>
            <a:off x="6084720" y="0"/>
            <a:ext cx="2590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йди начало и конец фраз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692280"/>
          <a:ext cx="7440840" cy="6027480"/>
        </p:xfrm>
        <a:graphic>
          <a:graphicData uri="http://schemas.openxmlformats.org/drawingml/2006/table">
            <a:tbl>
              <a:tblPr/>
              <a:tblGrid>
                <a:gridCol w="3721320"/>
                <a:gridCol w="3719520"/>
              </a:tblGrid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нает кошка,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 кошки се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тольются кошке …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ьё мясо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темноте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кошка с котят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сится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мь лет ни в чем удачи не вида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ерного кота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кины слёз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брый привет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 вымоешь доб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а убить 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тепл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лежит брюхом вверх 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 кошке лю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34600" y="2349000"/>
            <a:ext cx="3497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87280" y="260280"/>
          <a:ext cx="7561440" cy="618192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но пташечка запела,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ам раздоль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в печурку  - 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а ес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моется, лижет лапу  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меш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кошки-мы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ез кота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тужа во дв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грать 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бы кошечка не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упить кота 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плак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 Васька слушает,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вёдру,  т.е. хорошей погод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87280" y="692280"/>
          <a:ext cx="7777440" cy="6207120"/>
        </p:xfrm>
        <a:graphic>
          <a:graphicData uri="http://schemas.openxmlformats.org/drawingml/2006/table">
            <a:tbl>
              <a:tblPr/>
              <a:tblGrid>
                <a:gridCol w="3889440"/>
                <a:gridCol w="3888000"/>
              </a:tblGrid>
              <a:tr h="77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нает кошк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ьё мясо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тольются кош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кины слёз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7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темн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 кошки се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си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кошка с котят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7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ерного к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 вымоешь доб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брый прив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 кошке лю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а убить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мь лет ни в чем удачи не вид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лежит брюхом вверх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тепл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4:30Z</dcterms:created>
  <dc:creator>про</dc:creator>
  <dc:description/>
  <dc:language>en-US</dc:language>
  <cp:lastModifiedBy>pedagog</cp:lastModifiedBy>
  <dcterms:modified xsi:type="dcterms:W3CDTF">2014-05-22T07:32:53Z</dcterms:modified>
  <cp:revision>10</cp:revision>
  <dc:subject/>
  <dc:title>Начало проекта:</dc:title>
</cp:coreProperties>
</file>